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1B8E-213E-4977-9899-F9710BD51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roquo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5, 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ere many team games with about 6-8 players on each t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unning was also a sport and there were those who competed at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so played games of ch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ach-stone game was often played on the Green Corn Harvest and New Year’s Festiv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winter, they would play the “snake” ga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r More Information on the Iroquoi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Paper doll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loring pag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ational Geographic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tandar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cation and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known as the Haudenosaunee, the people of the longhou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part of the Great Iroquois Le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ir location was from eastern New York to northeastern Oh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 they traveled as far as the Mississippi River, Tennessee and the Hudson Ba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hou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lived in a village surrounded by a stock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stockade were longhou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d a fire hole in the middle to let the cooking smoke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between 15-20 ft. high, 25ft. wide and between 50-150 ft.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families lived in a longhou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 the Long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ins from animals or tree bark were used to make compartments for each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compartments were used for stor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lived with your “fireside family”-parents, brothers and sis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ldest women of the longhouse, was the head of the family and everyone was related to 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kilt like skirts almost to their kn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orated deerskin blouses or ve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e long skirts almost to their ankles, decorated with bea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g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skin vest or bl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D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one wore moccasins, made of one piece of deer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ccasin was sewn at the heel and the top for comfor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comfortable and were sewn with sinew (thread) from the deer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the winter they wore special shoes known as snowsho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nowshoe was worn along with the moccas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made of pieces of hickory w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were used for hunting tri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was attained by farming and hun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te a lot of vegetables, fruits, nuts and different kinds of meat and fis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ain vegetables were known as the “Three Sister” and they were corn, squash and be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63634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E7B8-71DB-44D5-AD9E-A6035170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D381-61F4-4E15-854D-DC9EB9756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8BB3-4378-4F62-AD52-3ABDFC30C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4AAA-8DBC-4510-80C1-A82FCC919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D48D-4B6A-4E82-8D7B-6F5257A0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DF1E-4476-4D99-ACCA-B5BA49C2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A6FB-D290-411D-BFA5-130FAB69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040-8B03-4CFD-9B48-91E219F5C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FE81-277E-4F18-B948-5A3962A0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5E5B-18F6-43DB-B1E5-8E12F05F5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1886-D9DC-4479-AD87-4B00FB5B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ABF9-95E0-4DAA-B396-D5684FA0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B2E6-A879-4AF4-8F9B-2436F8016807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900" spc="-1" strike="noStrike">
                <a:solidFill>
                  <a:srgbClr val="463634"/>
                </a:solidFill>
                <a:latin typeface="Tempus Sans ITC"/>
              </a:rPr>
              <a:t>The Iroquois</a:t>
            </a:r>
            <a:br>
              <a:rPr sz="6900"/>
            </a:br>
            <a:endParaRPr b="0" i="1" lang="en-US" sz="69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2209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1A7F-3DA5-4AD3-866A-98F6BB314833}" type="datetime3">
              <a:rPr b="0" lang="en-US" sz="3600" spc="-1" strike="noStrike">
                <a:solidFill>
                  <a:srgbClr val="000000"/>
                </a:solidFill>
                <a:latin typeface="Tempus Sans ITC"/>
              </a:rPr>
              <a:t>July 28, 2026</a:t>
            </a:fld>
            <a:endParaRPr b="0" lang="en-US" sz="36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Work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676520"/>
          <a:ext cx="7772400" cy="39924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Wom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463634"/>
                          </a:solidFill>
                          <a:uFillTx/>
                          <a:latin typeface="Tempus Sans ITC"/>
                        </a:rPr>
                        <a:t>Children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4131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Tools for hunt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ampum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3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arved bowls, cups and pipe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4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Sports equipment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5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usical instrument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6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ay po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7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Basket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8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radleboard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9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lothing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0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Moccasi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1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Elaborate decorations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SzPct val="100000"/>
                        <a:buBlip>
                          <a:blip r:embed="rId12"/>
                        </a:buBlip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Would help their mothers and fathers as much as they could with gathering of materials and other things.</a:t>
                      </a:r>
                      <a:endParaRPr b="0" lang="en-US" sz="24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Gam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re were many team games with about 6-8 players on each team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Running was also a sport and there were those who competed at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lso played games of chanc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peach-stone game was often played on the Green Corn Harvest and New Year’s Festival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uring winter, they would play the “snake” game,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95241"/>
                </a:solidFill>
                <a:latin typeface="Times New Roman"/>
              </a:rPr>
              <a:t>For More Information on the Iroquoi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Paper doll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oloring page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National Geographic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tandards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cation and Nam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known as the Haudenosaunee, the people of the longhouses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part of the Great Iroquois Leagu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ir location was from eastern New York to northeastern Ohio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Sometimes they traveled as far as the Mississippi River, Tennessee and the Hudson Bay.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172200" y="5791320"/>
            <a:ext cx="152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Longhous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lived in a village surrounded by a stockad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nside the stockade were longhouse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It had a fire hole in the middle to let the cooking smoke out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were between 15-20 ft. high, 25ft. wide and between 50-150 ft. lo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Many families lived in a longhous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57" name="Picture 7" descr="longhouse"/>
          <p:cNvPicPr/>
          <p:nvPr/>
        </p:nvPicPr>
        <p:blipFill>
          <a:blip r:embed="rId6"/>
          <a:stretch/>
        </p:blipFill>
        <p:spPr>
          <a:xfrm>
            <a:off x="2362320" y="5338800"/>
            <a:ext cx="4343400" cy="151920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Inside the Longhouse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kins from animals or tree bark were used to make compartments for each family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Some compartments were used for storage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You lived with your “fireside family”-parents, brothers and sister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mpus Sans ITC"/>
              </a:rPr>
              <a:t>The oldest women of the longhouse, was the head of the family and everyone was related to her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707520" y="6019920"/>
            <a:ext cx="99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Arial"/>
              </a:rPr>
              <a:t>Insid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figure3interiorlg"/>
          <p:cNvPicPr/>
          <p:nvPr/>
        </p:nvPicPr>
        <p:blipFill>
          <a:blip r:embed="rId1"/>
          <a:stretch/>
        </p:blipFill>
        <p:spPr>
          <a:xfrm>
            <a:off x="380880" y="533520"/>
            <a:ext cx="6782040" cy="5722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7241040" y="380880"/>
            <a:ext cx="40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7317360" y="3657600"/>
            <a:ext cx="40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6" name="Text Box 9"/>
          <p:cNvSpPr/>
          <p:nvPr/>
        </p:nvSpPr>
        <p:spPr>
          <a:xfrm>
            <a:off x="7849800" y="990720"/>
            <a:ext cx="418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463634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lothing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kilt like skirts almost to their knee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corated deerskin blouses or vest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447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463634"/>
                </a:solidFill>
                <a:uFillTx/>
                <a:latin typeface="Tempus Sans ITC"/>
              </a:rPr>
              <a:t>Women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Wore long skirts almost to their ankles, decorated with bead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Leggings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Deerskin vest or blouse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Shoes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EVERYDA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Everyone wore moccasins, made of one piece of deersk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moccasin was sewn at the heel and the top for comfort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comfortable and were sewn with sinew (thread) from the deer.</a:t>
            </a: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	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63634"/>
                </a:solidFill>
                <a:latin typeface="Tempus Sans ITC"/>
              </a:rPr>
              <a:t>WINTER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During the winter they wore special shoes known as snowshoes.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 snowshoe was worn along with the moccasin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made of pieces of hickory wood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empus Sans ITC"/>
              </a:rPr>
              <a:t>They were used for hunting trips.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75" name="Picture 17" descr="moccasin"/>
          <p:cNvPicPr/>
          <p:nvPr/>
        </p:nvPicPr>
        <p:blipFill>
          <a:blip r:embed="rId1"/>
          <a:stretch/>
        </p:blipFill>
        <p:spPr>
          <a:xfrm>
            <a:off x="304920" y="152280"/>
            <a:ext cx="2993760" cy="1811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8" descr="moc"/>
          <p:cNvPicPr/>
          <p:nvPr/>
        </p:nvPicPr>
        <p:blipFill>
          <a:blip r:embed="rId2"/>
          <a:stretch/>
        </p:blipFill>
        <p:spPr>
          <a:xfrm>
            <a:off x="5562720" y="228600"/>
            <a:ext cx="3276360" cy="1811160"/>
          </a:xfrm>
          <a:prstGeom prst="rect">
            <a:avLst/>
          </a:prstGeom>
          <a:ln w="0">
            <a:noFill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Food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Food was attained by farming and hunting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y ate a lot of vegetables, fruits, nuts and different kinds of meat and fish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empus Sans ITC"/>
              </a:rPr>
              <a:t>The main vegetables were known as the “Three Sister” and they were corn, squash and beans.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  <p:pic>
        <p:nvPicPr>
          <p:cNvPr id="80" name="Picture 4" descr="corn"/>
          <p:cNvPicPr/>
          <p:nvPr/>
        </p:nvPicPr>
        <p:blipFill>
          <a:blip r:embed="rId4"/>
          <a:stretch/>
        </p:blipFill>
        <p:spPr>
          <a:xfrm>
            <a:off x="685800" y="4343400"/>
            <a:ext cx="2057400" cy="18208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beans"/>
          <p:cNvPicPr/>
          <p:nvPr/>
        </p:nvPicPr>
        <p:blipFill>
          <a:blip r:embed="rId5"/>
          <a:stretch/>
        </p:blipFill>
        <p:spPr>
          <a:xfrm>
            <a:off x="6400800" y="43434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quash"/>
          <p:cNvPicPr/>
          <p:nvPr/>
        </p:nvPicPr>
        <p:blipFill>
          <a:blip r:embed="rId6"/>
          <a:stretch/>
        </p:blipFill>
        <p:spPr>
          <a:xfrm>
            <a:off x="3657600" y="4724280"/>
            <a:ext cx="1792440" cy="19368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95241"/>
                </a:solidFill>
                <a:latin typeface="Tempus Sans ITC"/>
              </a:rPr>
              <a:t>Corn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676520"/>
          <a:ext cx="7772400" cy="470052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14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was shelled and cooked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 powder with syrup was carried by hunter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1368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Dried kernels were used for decoration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Cornstalks were used to hold medicine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5760">
                      <a:solidFill>
                        <a:srgbClr val="463634"/>
                      </a:solidFill>
                    </a:lnB>
                    <a:noFill/>
                  </a:tcPr>
                </a:tc>
              </a:tr>
              <a:tr h="205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Husks were used to make mats, baskets, medicine masks and doll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463634"/>
                      </a:solidFill>
                    </a:lnL>
                    <a:lnR w="576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463634"/>
                          </a:solidFill>
                          <a:latin typeface="Tempus Sans ITC"/>
                        </a:rPr>
                        <a:t>Green corn leaves were sometimes used as bandages.</a:t>
                      </a:r>
                      <a:endParaRPr b="0" lang="en-US" sz="2800" spc="-1" strike="noStrike">
                        <a:solidFill>
                          <a:srgbClr val="463634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63634"/>
                      </a:solidFill>
                    </a:lnL>
                    <a:lnR w="13680">
                      <a:solidFill>
                        <a:srgbClr val="463634"/>
                      </a:solidFill>
                    </a:lnR>
                    <a:lnT w="5760">
                      <a:solidFill>
                        <a:srgbClr val="463634"/>
                      </a:solidFill>
                    </a:lnT>
                    <a:lnB w="13680">
                      <a:solidFill>
                        <a:srgbClr val="463634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6" name="Picture 54" descr="cor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486400" y="0"/>
            <a:ext cx="1344600" cy="16398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5" descr="corn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2666880" y="0"/>
            <a:ext cx="1344600" cy="163980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463634"/>
              </a:solidFill>
              <a:latin typeface="Arial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31T02:51:49Z</dcterms:created>
  <dc:creator>college education</dc:creator>
  <dc:description/>
  <dc:language>en-US</dc:language>
  <cp:lastModifiedBy>Legion</cp:lastModifiedBy>
  <dcterms:modified xsi:type="dcterms:W3CDTF">2017-07-05T13:20:40Z</dcterms:modified>
  <cp:revision>51</cp:revision>
  <dc:subject/>
  <dc:title>PowerPoint Presentation</dc:title>
</cp:coreProperties>
</file>